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919C-2692-48D8-9ED5-52AD84D8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4D95-D41F-47EC-9E62-91143033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.jhu.edu/~mrg/publications/finere-naacl-2015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github.com/attardi/deepnl" TargetMode="External"/><Relationship Id="rId2" Type="http://schemas.openxmlformats.org/officeDocument/2006/relationships/hyperlink" Target="https://github.com/attardi/deepnl" TargetMode="External"/><Relationship Id="rId3" Type="http://schemas.openxmlformats.org/officeDocument/2006/relationships/hyperlink" Target="http://alt.qcri.org/semeval2015/cdrom/pdf/SemEval079.pdf" TargetMode="External"/><Relationship Id="rId4" Type="http://schemas.openxmlformats.org/officeDocument/2006/relationships/hyperlink" Target="http://alt.qcri.org/semeval2015/cdrom/pdf/SemEval079.pdf" TargetMode="External"/><Relationship Id="rId5" Type="http://schemas.openxmlformats.org/officeDocument/2006/relationships/hyperlink" Target="http://alt.qcri.org/semeval2015/cdrom/pdf/SemEval079.pdf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Seminar Topics and Projects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partimento di Informa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7570440" y="115920"/>
            <a:ext cx="1133280" cy="1257120"/>
            <a:chOff x="7570440" y="115920"/>
            <a:chExt cx="1133280" cy="1257120"/>
          </a:xfrm>
        </p:grpSpPr>
        <p:pic>
          <p:nvPicPr>
            <p:cNvPr id="93" name="Picture 7" descr="cherubino"/>
            <p:cNvPicPr/>
            <p:nvPr/>
          </p:nvPicPr>
          <p:blipFill>
            <a:blip r:embed="rId1"/>
            <a:stretch/>
          </p:blipFill>
          <p:spPr>
            <a:xfrm>
              <a:off x="7649640" y="115920"/>
              <a:ext cx="93420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7570440" y="1141920"/>
              <a:ext cx="113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6699"/>
                  </a:solidFill>
                  <a:latin typeface="Palatino Linotype"/>
                </a:rPr>
                <a:t>Università di Pi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lation Extra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 word embeddings as features + extra hand-coded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actor Based Compositional Embedding Model (FCM)</a:t>
            </a:r>
            <a:br>
              <a:rPr sz="2800"/>
            </a:b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cs.jhu.edu/~mrg/publications/finere-naacl-2015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Eval 2014 Relation Extraction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Entity Linking with Embedding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techniq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. Blanco, G. Ottaviano, E. Meiji. 2014. Fast and Space-Efficient Entity Linking in Quer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s.yahoo.com/_c/uploads/WSDM-2015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anc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Extraction of Semantic Hierarchie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ord embeddings as measure of semantic d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ikipedia as source of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ir.hit.edu.cn/~jguo/papers/acl2014-hypernym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457440" y="6078600"/>
            <a:ext cx="161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ni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151080" y="5464080"/>
            <a:ext cx="2381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uncolac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3457440" y="4773600"/>
            <a:ext cx="161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57440" y="4159080"/>
            <a:ext cx="161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ggested Topics for Semina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ural Reaso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eng, Z. Lu, H. Li, K.F. WongToward Neural Network-based Reaso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Kumar et a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Me Anything: Dynamic Memory Networks for Natural Language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 Answer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wl Competition (QANTA vs Jenning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youtube.com/watch?v=kTXJCEvCDY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yyer et al. 2014: A Neural Network for Factoid Question Answering over Paragrap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Wats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aai.org/Magazine/Watson/watson.ph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ist.gov/tac/2008/qa/index.htm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mage Understa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Y. Gao et al. Are You Talking to a Machine? Dataset and Methods for Multilingual Image Question Answering, NIPS, 201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ep Learning Applic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 RNNs on text and c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karpathy.github.io/2015/05/21/rnn-effec8veness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Word Representations with Recursive Neural Networks for Morphology – Luong et 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semous 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roving Word Representa8ons Via Global Context And Multiple Word Prototypes by Huang et al. 201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Inference (Logic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 Answer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– Sentence mapp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tity Link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Kierarchy Embed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cmu.edu/~zhitingh/data/acl15entity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Deep Learning tsunami over NLP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Manning. 201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mitpressjournals.org/doi/pdf/10.1162/COLI_a_0023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ep Learning Tokeniz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ing 2016 challenge requires tokenizer for any of the Universal Dependency TreeB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DL tokenizer using Keras based on the approach 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le, Valerio and Bos, Johan and Evang, Kili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General-Purpose Machine Learning Method for Tokenization and Sentence Boundary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13), http://gmb.let.rug.nl/elephant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Mi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Liu. Sentiment Analisis and Subjectivity. 2010. Handbook of NLP. http://www.cs.uic.edu/~liub/FBS/NLP-handbook-sentiment-analysis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mantic Role Lab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ufal.mff.cuni.cz/conll2009-st/task-description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L for NL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Machine 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Bahdanau, K. Cho, Y. Bengio. Neural machine translation by jointly learning to align and translate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arxiv.org/pdf/1409.0473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from scr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ang, X., &amp; LeCun, Y. (2015). Text Understanding from Scrat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arxiv.org/abs/1502.017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ep Learning POS for U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ing 2016 challenge requires tokenizer for any of the Universal Dependency TreeB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DL POS using CNN, for example a LSTM that uses word embeddings and possible charcater embedding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ep Learning Morph Analyz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ing 2016 challenge requires tokenizer for any of the Universal Dependency TreeBa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DL morphological analyzer that copmutes the morphology of each word, using Keras and charcaher embedding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D exten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cripts to extract additional relations from the analysis of UD parse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4520" y="357120"/>
            <a:ext cx="8758080" cy="7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volutional Networks for Sentiment Analysi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ed Data: SemEval training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nnotated Data: 50 million twe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: DeepNL,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github.com/attardi/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deep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: A. Severyn, A. Moschitti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UNITN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: Training Deep Convolutional Neural Network for Twitter Sentiment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Class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9120"/>
            <a:ext cx="846936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POS tagging using Word Embedding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 Evalita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ings: http://tanl.di.unipi.it/embedding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: Stratos, M. Collins. Simple Semi-Supervised POS Tagg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olumbia.edu/~stratos/research/naacl15semipos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egation/Speculation Extrac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cope of negative or speculative stateme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yso-platelet ha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lI-AluI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ress the basal-level activ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 for identifying c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 to determine 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cope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pus of Product Review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eviews from online sh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as positive/negative according to st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classifier to assign s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9:18:16Z</dcterms:created>
  <dc:creator>Giuseppe Attardi</dc:creator>
  <dc:description/>
  <dc:language>en-US</dc:language>
  <cp:lastModifiedBy>Giuseppe Attardi</cp:lastModifiedBy>
  <dcterms:modified xsi:type="dcterms:W3CDTF">2016-12-16T15:15:50Z</dcterms:modified>
  <cp:revision>765</cp:revision>
  <dc:subject/>
  <dc:title>Categorization</dc:title>
</cp:coreProperties>
</file>